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578-3A6F-40AD-8AD2-DE25D7A5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838-6A0C-4039-A72E-CFFAF71E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527-907F-494C-B775-A93047BA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7A8-4F01-4D0D-8E0F-B977AF96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246-E04E-45CF-B63F-4F0F1B71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D42-32E8-40D7-B42C-E563CEAF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FF6-0C67-490E-8EFF-49C1A96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7B2-0E24-4AE9-9FD0-C1BDC823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2AA-B3F7-4D99-B268-3C6D547E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6A1-1B48-4981-AFA3-AF955CF7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FCF-7129-4DAA-AD2B-1F8A833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ACA-411C-4F58-9140-2CCBAD4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1035-FC34-4C8E-906C-3594E58C1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-Cos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M 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/Cos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deral government is considering demolishing a large dam on the Columbia River in Idaho.  Cost of dam demolition is 50 million.  What are other costs and benefits and who pays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way that ran over top of d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 of marina on old l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/C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d control for towns downst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t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 fishers on co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tate, coun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of cheap hydroelectric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t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s and Benefits accrue to different ent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d Control Act of 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must outweigh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homsoever they may accr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– C &gt; 0     or    B/C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man’s benefit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roject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rovers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 are frequently und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alysts try to only use construction costs (which is usually direct cost to the federal government) in the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sts are called “disbenefits” and are placed in the numerator as a 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/Cost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numerical value of benefit/cost ratio will vary depending o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ill always be greater than one if the benefits outweigh the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problems you would have to be told which method to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 6.3 page 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/C Increment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/C problems you will be given “i” and must decide if you will use EACF or P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you must check each alternative and verify that they have a B/C&gt;1, if not then re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up cheapest to most expensive first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with the cheapest, subtract benefits and costs from the next more costly and test if the B/C of the delta is &gt;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5 by B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20:55:43Z</dcterms:created>
  <dc:creator>Robert A. Perkins</dc:creator>
  <dc:description/>
  <dc:language>en-US</dc:language>
  <cp:lastModifiedBy>Robert A. Perkins</cp:lastModifiedBy>
  <dcterms:modified xsi:type="dcterms:W3CDTF">2006-02-02T03:49:10Z</dcterms:modified>
  <cp:revision>5</cp:revision>
  <dc:subject/>
  <dc:title>Benefit-Cost Analysis</dc:title>
</cp:coreProperties>
</file>