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52E-862F-4FCC-8F14-1ECEA425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BA82-0AFB-4B05-BA0B-F785F773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DF9-3088-4B6A-A146-2B66345A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3CC-E8EA-40A3-8F97-38C04974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8163-0A4F-4631-8375-9E79EE57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98D-82F4-4B46-BAD0-208C8211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9AD-C82F-430A-A3AC-241AD719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962-5ED4-4B7F-B33A-D5BF8942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4CF7-286B-4F67-A8B9-3AE50008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1B81-20CA-40E5-B57C-31AAE497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B37-A727-4B4C-91D2-CC0E8E1A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D7F-02AC-4BF8-9AFB-9F3832FF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AA33-0249-4C00-8E5C-B91AD2293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M 4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s 3 &amp;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Annual Cash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Worth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60280" y="763560"/>
          <a:ext cx="2425680" cy="47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763560"/>
                    <a:ext cx="242568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757600" y="777960"/>
          <a:ext cx="6906960" cy="417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57600" y="777960"/>
                    <a:ext cx="690696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895480" y="380880"/>
          <a:ext cx="5943600" cy="5410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380880"/>
                    <a:ext cx="594360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327672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38080" y="1066320"/>
            <a:ext cx="0" cy="221004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971800" y="1142640"/>
            <a:ext cx="0" cy="2133720"/>
          </a:xfrm>
          <a:prstGeom prst="line">
            <a:avLst/>
          </a:prstGeom>
          <a:ln w="5724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257800" y="1066320"/>
            <a:ext cx="0" cy="2210040"/>
          </a:xfrm>
          <a:prstGeom prst="line">
            <a:avLst/>
          </a:prstGeom>
          <a:ln w="57240">
            <a:solidFill>
              <a:srgbClr val="66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219320" y="2895120"/>
            <a:ext cx="0" cy="381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00200" y="2895120"/>
            <a:ext cx="0" cy="381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057400" y="2895120"/>
            <a:ext cx="0" cy="381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971800" y="2876040"/>
            <a:ext cx="0" cy="381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438280" y="2895120"/>
            <a:ext cx="0" cy="381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429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 1  2    3    4    5     6    7    8   9   10 11  12  13  14  1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505320" y="2895120"/>
            <a:ext cx="0" cy="3812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886200" y="2895120"/>
            <a:ext cx="0" cy="3812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343400" y="2895120"/>
            <a:ext cx="0" cy="3812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257800" y="2876040"/>
            <a:ext cx="0" cy="3812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724280" y="2895120"/>
            <a:ext cx="0" cy="3812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715000" y="2895120"/>
            <a:ext cx="0" cy="381240"/>
          </a:xfrm>
          <a:prstGeom prst="line">
            <a:avLst/>
          </a:prstGeom>
          <a:ln w="572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095880" y="2895120"/>
            <a:ext cx="0" cy="381240"/>
          </a:xfrm>
          <a:prstGeom prst="line">
            <a:avLst/>
          </a:prstGeom>
          <a:ln w="572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553080" y="2895120"/>
            <a:ext cx="0" cy="381240"/>
          </a:xfrm>
          <a:prstGeom prst="line">
            <a:avLst/>
          </a:prstGeom>
          <a:ln w="572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467480" y="2876040"/>
            <a:ext cx="0" cy="381240"/>
          </a:xfrm>
          <a:prstGeom prst="line">
            <a:avLst/>
          </a:prstGeom>
          <a:ln w="572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895120"/>
            <a:ext cx="0" cy="381240"/>
          </a:xfrm>
          <a:prstGeom prst="line">
            <a:avLst/>
          </a:prstGeom>
          <a:ln w="572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Excel, Class4Examples, Shee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Worth “PW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find the equivalent of both alternatives at time z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Exc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= F*(1+i)^-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V, if payments are uni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valent Annual Cash Flow “EACF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equivalent an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ind present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use the PMT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ssuming repeatability, the length of life does not ma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l, HW2_Clas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n Blackboard, Chapter 3 Examples, to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1, Page 55, Replace furn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e 59, LAN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of NPV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PV function will find the equivalent at time zero of uneven cash flows – the usual case.  It is a very handy function, if you remember two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Put “0” in years without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Keep the Initial Cost (time zero) out of the NPV function and add it separa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044800" y="298440"/>
          <a:ext cx="6508800" cy="62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4800" y="298440"/>
                    <a:ext cx="650880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2860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Example 1, She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only worked out neatly because the service lives of the shallow bed was a nice multiple of the service life of the package plant.  Generally, if lives are unequal, the EACF is much simp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“capitalized cost” for infinite service life A = Initial Cost *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over home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Primer Chapters 3 and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ertainty” vs. “Intangible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ability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n Excel, HW 2_Class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2-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ways to evaluate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F (Chapter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Annual Cash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ometimes equivalent uniform cash f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(Chapter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 W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e of Return (Chapter 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Benefit (Chapter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Class Su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s 3 and 4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e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 with 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has the higher benef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s or budget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 have equal (or unstated) 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has the lowest c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 with benefits and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 dif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s with both costs and benefi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Receipts Minus Disburs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Careful with sign con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F = EAR - EA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of Receipts  -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of Disburse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CF vs. P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F, reduce all R and D of alternatives to their annual equiva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, bring all R and D of alternatives to the same time, usually year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152280"/>
          <a:ext cx="8610480" cy="6324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861048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09480" y="4114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* = 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15:06:16Z</dcterms:created>
  <dc:creator>Robert A. Perkins</dc:creator>
  <dc:description/>
  <dc:language>en-US</dc:language>
  <cp:lastModifiedBy>Robert A. Perkins</cp:lastModifiedBy>
  <cp:lastPrinted>2001-09-16T19:17:50Z</cp:lastPrinted>
  <dcterms:modified xsi:type="dcterms:W3CDTF">2006-01-30T23:42:43Z</dcterms:modified>
  <cp:revision>15</cp:revision>
  <dc:subject/>
  <dc:title>ESM 450</dc:title>
</cp:coreProperties>
</file>