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DF9-2B3C-4EF9-926A-F97B5A74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93E-5121-4F22-9BFA-70539B0D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277-B684-4A26-AD1B-EDBF08BF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091-BB7D-4F95-A44C-C5BBEFA2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10A-1FBE-4AAA-97B8-5DCBA5A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F92-848C-4EE0-85F8-E2D7A67F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A9B-6ABD-4E66-8A58-39041294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0E3-D81F-4260-BAB1-ACEA9002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CE3-AA3B-4D73-B6A5-110A81C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2C7-7BE8-4AA2-B49C-B048BEC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E78-3B2D-43BA-9B02-166D281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5D8-EEF3-4AE1-82AD-07AEA25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17C7-4719-4370-B4D8-88B9BF292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Retur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need Increment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comparing alternatives and are given the MARR.  PW or EACF will give you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you must do B/C because costs and benefits accrue to different ent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ublic works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ment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ly Exclusive Alterna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36576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7432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11480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362320"/>
            <a:ext cx="1522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62120" y="1725480"/>
            <a:ext cx="299880" cy="663840"/>
          </a:xfrm>
          <a:custGeom>
            <a:avLst/>
            <a:gdLst/>
            <a:ahLst/>
            <a:rect l="l" t="t" r="r" b="b"/>
            <a:pathLst>
              <a:path w="189" h="418">
                <a:moveTo>
                  <a:pt x="0" y="418"/>
                </a:moveTo>
                <a:cubicBezTo>
                  <a:pt x="13" y="315"/>
                  <a:pt x="12" y="302"/>
                  <a:pt x="79" y="235"/>
                </a:cubicBezTo>
                <a:cubicBezTo>
                  <a:pt x="66" y="231"/>
                  <a:pt x="40" y="236"/>
                  <a:pt x="40" y="222"/>
                </a:cubicBezTo>
                <a:cubicBezTo>
                  <a:pt x="40" y="208"/>
                  <a:pt x="71" y="220"/>
                  <a:pt x="79" y="209"/>
                </a:cubicBezTo>
                <a:cubicBezTo>
                  <a:pt x="99" y="179"/>
                  <a:pt x="80" y="130"/>
                  <a:pt x="105" y="104"/>
                </a:cubicBezTo>
                <a:cubicBezTo>
                  <a:pt x="189" y="19"/>
                  <a:pt x="170" y="12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3434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648320"/>
            <a:ext cx="2057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37339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191120"/>
            <a:ext cx="304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4197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3526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724280"/>
            <a:ext cx="1752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36576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74320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411480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362320"/>
            <a:ext cx="1522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62120" y="1725480"/>
            <a:ext cx="299880" cy="663840"/>
          </a:xfrm>
          <a:custGeom>
            <a:avLst/>
            <a:gdLst/>
            <a:ahLst/>
            <a:rect l="l" t="t" r="r" b="b"/>
            <a:pathLst>
              <a:path w="189" h="418">
                <a:moveTo>
                  <a:pt x="0" y="418"/>
                </a:moveTo>
                <a:cubicBezTo>
                  <a:pt x="13" y="315"/>
                  <a:pt x="12" y="302"/>
                  <a:pt x="79" y="235"/>
                </a:cubicBezTo>
                <a:cubicBezTo>
                  <a:pt x="66" y="231"/>
                  <a:pt x="40" y="236"/>
                  <a:pt x="40" y="222"/>
                </a:cubicBezTo>
                <a:cubicBezTo>
                  <a:pt x="40" y="208"/>
                  <a:pt x="71" y="220"/>
                  <a:pt x="79" y="209"/>
                </a:cubicBezTo>
                <a:cubicBezTo>
                  <a:pt x="99" y="179"/>
                  <a:pt x="80" y="130"/>
                  <a:pt x="105" y="104"/>
                </a:cubicBezTo>
                <a:cubicBezTo>
                  <a:pt x="189" y="19"/>
                  <a:pt x="170" y="12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8098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9718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3434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648320"/>
            <a:ext cx="2057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7339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304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862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4197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33526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724280"/>
            <a:ext cx="1752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story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25880" y="41148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267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1911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89548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31240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312408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648320"/>
            <a:ext cx="1752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between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ney you do not spend on the higher priced alternative is reinvested at the MA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xpensive alternative return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IRR is not apples vs. ap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look at inc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Use “Increment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utually exclusive and MARR expressed as “at least” or “must be greater tha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pendent decision, such as choosing bonds, you should use RoR but not the Incremental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ly Exclu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row out non-feasible, that is, RoR less than MARR or technically inadequ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This step is usually assumed to ha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en done before the problem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ll feasible alternatives will meet the minimum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then is, what is the return on the extra money for the more expensive investment.  Chevy Vs. Cadill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alternatives from cheapest first cost to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“do nothing” is feasible, rank it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cheapest to next more expensive by subtracting.  Determine the RoR on the del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oR on delta is less than MARR, throw out the more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Methods of Evaluating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Return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 / Cost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conclusion will be reached using any one of these evalu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5800" y="380880"/>
          <a:ext cx="8001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80880" y="0"/>
          <a:ext cx="830592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09480" y="457200"/>
          <a:ext cx="769644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964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e of Retur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est presentation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ment A returns 18%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ment B returns 16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YES-NO decision based on MA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of return (RoR) is that value of “i” for which the present worth of the benefits (receipts) equals the present worth of the costs (disbursement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olve for “i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” is not given or is given as “greater tha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R analysis can be used to rank altern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must have cash benefits and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Method: Solve by manipulating formulas or interpolating from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’s Method: Utilize Spreadsheet function “IRR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Section 5.2 on Page 59, 2d 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ter_5_Examples, Ex 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n year bond pays 8% interest per annum, payable annually.  What is the Rate of Return if the bond sells for $4,600?  Why would you pay for the bond if your MARR is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CF is all co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do RoR on something that is all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mpare alternatives by noting the RoR on their difference. (Excel Table 5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3124080"/>
          <a:ext cx="7391520" cy="326556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ual 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vag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q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use repeatability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Table 5-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mental Analy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mental analysis looks at the difference between the costs and benefits between alternatives, rather than at the PW or EACF of the altern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tion of incremental analysis arises with the RoR method and the Benefit/Cost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22:51:39Z</dcterms:created>
  <dc:creator>Robert A. Perkins</dc:creator>
  <dc:description/>
  <dc:language>en-US</dc:language>
  <cp:lastModifiedBy>Robert A. Perkins</cp:lastModifiedBy>
  <dcterms:modified xsi:type="dcterms:W3CDTF">2006-02-02T03:33:22Z</dcterms:modified>
  <cp:revision>13</cp:revision>
  <dc:subject/>
  <dc:title>ESM 450</dc:title>
</cp:coreProperties>
</file>